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0C77-6F44-45A6-9694-BA6E4EFF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4909-BE2E-4EA1-A01C-A836F0B6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BC1F-6336-49ED-9CC0-DA926A77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0121-DC82-43A7-AF43-82350F52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C3E9-F5DA-4DB2-9B59-2474D689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09A0-8F75-4089-B64D-785DE038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4308-ACDD-4DF1-AE9A-0BBD9D99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4507-27F2-46C8-B29B-84EFB448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F700-80AA-49D2-8E27-428BC096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5A64-1E69-4779-81E3-4ACE137C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AA8B-10F4-4D1D-BA92-915E5668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11DC-C429-46AA-9820-990FC8E7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0DF0-5922-401A-AAB6-558BB1BB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7BBD-72F6-4722-9EAA-F66F7C37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6AC2-CC65-4BFC-BB32-834A6F40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AAE5-A98A-44EE-B49D-94172218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2DAA-CF37-4343-81D1-3C6E27CA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B87B-4D2D-491A-BA01-7CB1262C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F2B3-E7CC-41B4-AAF3-46F32690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960E-67CC-4E08-85DA-011EAB39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B22B-D5F0-4E8E-967B-9F53F3CA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D0F9-4FC5-43B9-B98C-E38AF8DC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A17B-3BBF-44E2-BF2D-85E2FFB2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2DC8-1B1C-4BCE-BD62-1207B3AC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0297-631C-42EA-B63B-1E970650EC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3E3F-CEDB-496C-8BD8-43265810EF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Structure of DNA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6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6782040" cy="5664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8600" y="594360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order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NA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ranscriptio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NA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ranslatio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0592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506520"/>
            <a:ext cx="853416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Copying D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4114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plica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the process of DNA copying itsel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akes 6 -8 hou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done BEFORE mitosis or meio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76960" y="380880"/>
            <a:ext cx="30906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952880" y="533520"/>
            <a:ext cx="3657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NA is unzipped by special enzymes called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NA Helicas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eak the H bonds between the str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454640" cy="59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replication fork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s on either end of the DNA where the double helix is separa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curs in a circle, not one end to anoth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52480" y="2259000"/>
            <a:ext cx="54864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ce the DNA is partially unzipped, special enzymes calle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NA Polymera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ve along the exposed DNA making a complimentary strand for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8229600" cy="4313520"/>
          </a:xfrm>
          <a:prstGeom prst="rect">
            <a:avLst/>
          </a:prstGeom>
          <a:ln w="9360">
            <a:solidFill>
              <a:srgbClr val="99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4765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zymes stay bonded to the DNA until all of the DNA is cop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ce the copying is done, you have 2 identical strands of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replication fork in DNA helix"/>
          <p:cNvPicPr/>
          <p:nvPr/>
        </p:nvPicPr>
        <p:blipFill>
          <a:blip r:embed="rId1"/>
          <a:stretch/>
        </p:blipFill>
        <p:spPr>
          <a:xfrm>
            <a:off x="5257800" y="304920"/>
            <a:ext cx="32320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ymerases are able to double check their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ically few err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ximately 1 per billion nucleot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2324160" cy="2666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362320" y="2666880"/>
            <a:ext cx="678168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69608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4572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NA’s instructions are carried out b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NA (ribonucleic aci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s as photocopier, copying ge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more H than DNA 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of G, C, A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 (Uracil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stead of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GLE STRAND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c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57800" y="0"/>
            <a:ext cx="354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1532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transfer of instructions for making a protein from a gene to R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e in nucle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to copying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NA polymera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d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a gene’s promoter (AUG sequen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zip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ds and cop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DNA using RNA base pairs (substitute U for 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ches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o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gnal and the RNA is releas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76520" y="4114800"/>
            <a:ext cx="547848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3818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l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translates RNA base sequence into the Amino acid sequence of a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e in Ribos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ins at the UAG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R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essenger) to carry the code from the nucleus to the ribos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transfer) to pick up the amino acid in the cytoplasm and carries it to the ribos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RN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ibosomal) to bind mRNA and t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362320" y="3360600"/>
            <a:ext cx="403848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6782040" cy="5664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8600" y="594360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order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NA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ranscriptio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NA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ranslatio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NA REVIEW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5800" y="1523880"/>
          <a:ext cx="8159760" cy="4818240"/>
        </p:xfrm>
        <a:graphic>
          <a:graphicData uri="http://schemas.openxmlformats.org/drawingml/2006/table">
            <a:tbl>
              <a:tblPr/>
              <a:tblGrid>
                <a:gridCol w="2133720"/>
                <a:gridCol w="602604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bonucle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g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b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CA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of stra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olved in protein synthes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NA / RNA comparis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5800" y="1600200"/>
          <a:ext cx="8077320" cy="4448160"/>
        </p:xfrm>
        <a:graphic>
          <a:graphicData uri="http://schemas.openxmlformats.org/drawingml/2006/table">
            <a:tbl>
              <a:tblPr/>
              <a:tblGrid>
                <a:gridCol w="1752480"/>
                <a:gridCol w="3276720"/>
                <a:gridCol w="3048120"/>
              </a:tblGrid>
              <a:tr h="83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oxyribonucleic Aci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bonucleic Aci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gar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oxyribos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bos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CA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CA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of strands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W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res hereditary information and codes for protein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olved in protein synthesi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4495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N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ontains the blueprints or codebook for lif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res information fo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in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s direct cellular activity and determine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17960" y="2527200"/>
            <a:ext cx="3927600" cy="2946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cated in the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ucleu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f eukaryo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746748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648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de up of units called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ucleotid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sts of deoxyribose, phosphate groups, and N carrying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s ar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anine (G), Cytosine (C), Adenine (A), Thymine (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89600" y="1600200"/>
            <a:ext cx="3905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724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pe is called a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uble heli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side is made of alternating phosphates and sugar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ide is made of N carrying 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800600" y="533520"/>
            <a:ext cx="4067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47960" y="304920"/>
            <a:ext cx="4197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-paring ru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tructure and size of each of the Nitrogen bases only allows the following pai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airs with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 pairs with 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s of one strand of DNA are complimentary to the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537000" cy="510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71600" y="2743200"/>
            <a:ext cx="3124080" cy="39625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388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Sequence of Nucleotides is the code that controls the production of all protei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NA REVIEW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5800" y="1523880"/>
          <a:ext cx="8159760" cy="4818240"/>
        </p:xfrm>
        <a:graphic>
          <a:graphicData uri="http://schemas.openxmlformats.org/drawingml/2006/table">
            <a:tbl>
              <a:tblPr/>
              <a:tblGrid>
                <a:gridCol w="2133720"/>
                <a:gridCol w="602604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oxyribonucle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g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oxyrib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C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of stra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W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res hereditary information and codes for protei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4:37:07Z</dcterms:created>
  <dc:creator>Staff</dc:creator>
  <dc:description/>
  <dc:language>en-US</dc:language>
  <cp:lastModifiedBy>SGANSK</cp:lastModifiedBy>
  <dcterms:modified xsi:type="dcterms:W3CDTF">2008-12-03T20:56:27Z</dcterms:modified>
  <cp:revision>21</cp:revision>
  <dc:subject/>
  <dc:title>Structure of DNA</dc:title>
</cp:coreProperties>
</file>